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png" ContentType="image/png"/>
  <Override PartName="/ppt/media/image17.wmf" ContentType="image/x-wmf"/>
  <Override PartName="/ppt/media/image8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25.jpeg" ContentType="image/jpeg"/>
  <Override PartName="/ppt/media/image22.png" ContentType="image/png"/>
  <Override PartName="/ppt/media/image19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8.gif" ContentType="image/gif"/>
  <Override PartName="/ppt/media/image20.gif" ContentType="image/gif"/>
  <Override PartName="/ppt/media/image2.jpeg" ContentType="image/jpeg"/>
  <Override PartName="/ppt/media/image23.jpeg" ContentType="image/jpeg"/>
  <Override PartName="/ppt/media/image28.gif" ContentType="image/gif"/>
  <Override PartName="/ppt/media/image16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0B3-8075-4BE4-BB96-7BB2B316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E92-6E3E-479D-AB18-21BC3CFB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497-CAC2-4E70-8C30-2D8C7169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B2E-9085-4DB2-A9E9-E15CD1F7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E48-00A9-429D-A3F7-B3A67748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214-7E4B-4852-9B7B-A645B4ED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9E4-D9A5-4999-A071-C8094AE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052-9196-4C05-81E0-DD8CC06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676-1914-4F4B-A366-3F52847E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C70-C06D-4D32-8053-634FDAD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740-D1E3-4324-A0D9-628F4988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B7C-0069-46B5-99A4-DB4C7C37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DC87-A1A6-4883-878E-5CAB9B3A6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xt Stru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971800" y="1600200"/>
            <a:ext cx="2998440" cy="1600920"/>
            <a:chOff x="2971800" y="1600200"/>
            <a:chExt cx="2998440" cy="1600920"/>
          </a:xfrm>
        </p:grpSpPr>
        <p:grpSp>
          <p:nvGrpSpPr>
            <p:cNvPr id="179" name=""/>
            <p:cNvGrpSpPr/>
            <p:nvPr/>
          </p:nvGrpSpPr>
          <p:grpSpPr>
            <a:xfrm>
              <a:off x="2971800" y="1600200"/>
              <a:ext cx="2998440" cy="1600920"/>
              <a:chOff x="2971800" y="1600200"/>
              <a:chExt cx="2998440" cy="160092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971800" y="1742760"/>
                <a:ext cx="2998440" cy="1458360"/>
                <a:chOff x="2971800" y="1742760"/>
                <a:chExt cx="2998440" cy="14583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004560" y="17892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a4a"/>
                    </a:gs>
                    <a:gs pos="100000">
                      <a:srgbClr val="0099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971800" y="17427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8dd0d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3113280" y="16002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48200" y="16077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f3f4"/>
                  </a:gs>
                  <a:gs pos="100000">
                    <a:srgbClr val="bbe0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75200" y="16207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48235"/>
                    </a:srgbClr>
                  </a:gs>
                  <a:gs pos="100000">
                    <a:srgbClr val="93b0b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06960" y="16477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627720" y="1800000"/>
              <a:ext cx="165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e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e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62120" y="3124080"/>
            <a:ext cx="3123720" cy="2763720"/>
            <a:chOff x="762120" y="3124080"/>
            <a:chExt cx="3123720" cy="2763720"/>
          </a:xfrm>
        </p:grpSpPr>
        <p:sp>
          <p:nvSpPr>
            <p:cNvPr id="189" name=""/>
            <p:cNvSpPr/>
            <p:nvPr/>
          </p:nvSpPr>
          <p:spPr>
            <a:xfrm>
              <a:off x="762120" y="3220920"/>
              <a:ext cx="2394000" cy="2666880"/>
            </a:xfrm>
            <a:custGeom>
              <a:avLst/>
              <a:gdLst>
                <a:gd name="textAreaLeft" fmla="*/ 116640 w 2394000"/>
                <a:gd name="textAreaRight" fmla="*/ 2277360 w 2394000"/>
                <a:gd name="textAreaTop" fmla="*/ 116640 h 2666880"/>
                <a:gd name="textAreaBottom" fmla="*/ 2550240 h 266688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1840" y="3420720"/>
              <a:ext cx="2134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Para. 1-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How didTony achieved his American Dre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0120" y="3124080"/>
              <a:ext cx="94572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bd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028840" y="3124080"/>
            <a:ext cx="2972160" cy="2790720"/>
            <a:chOff x="5028840" y="3124080"/>
            <a:chExt cx="2972160" cy="2790720"/>
          </a:xfrm>
        </p:grpSpPr>
        <p:grpSp>
          <p:nvGrpSpPr>
            <p:cNvPr id="193" name=""/>
            <p:cNvGrpSpPr/>
            <p:nvPr/>
          </p:nvGrpSpPr>
          <p:grpSpPr>
            <a:xfrm>
              <a:off x="5715000" y="3247920"/>
              <a:ext cx="2286000" cy="2666880"/>
              <a:chOff x="5715000" y="3247920"/>
              <a:chExt cx="2286000" cy="2666880"/>
            </a:xfrm>
          </p:grpSpPr>
          <p:sp>
            <p:nvSpPr>
              <p:cNvPr id="194" name=""/>
              <p:cNvSpPr/>
              <p:nvPr/>
            </p:nvSpPr>
            <p:spPr>
              <a:xfrm>
                <a:off x="5715000" y="3247920"/>
                <a:ext cx="2286000" cy="2666880"/>
              </a:xfrm>
              <a:custGeom>
                <a:avLst/>
                <a:gdLst>
                  <a:gd name="textAreaLeft" fmla="*/ 111600 w 2286000"/>
                  <a:gd name="textAreaRight" fmla="*/ 2174400 w 2286000"/>
                  <a:gd name="textAreaTop" fmla="*/ 111600 h 2666880"/>
                  <a:gd name="textAreaBottom" fmla="*/ 2555280 h 2666880"/>
                </a:gdLst>
                <a:ahLst/>
                <a:rect l="textAreaLeft" t="textAreaTop" r="textAreaRight" b="textAreaBottom"/>
                <a:pathLst>
                  <a:path w="21600" h="25198">
                    <a:moveTo>
                      <a:pt x="3600" y="0"/>
                    </a:moveTo>
                    <a:arcTo wR="3600" hR="3600" stAng="16200000" swAng="-5400000"/>
                    <a:lnTo>
                      <a:pt x="0" y="21598"/>
                    </a:lnTo>
                    <a:arcTo wR="3600" hR="3600" stAng="10800000" swAng="-5400000"/>
                    <a:lnTo>
                      <a:pt x="18000" y="251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7280" y="3447720"/>
                <a:ext cx="2038320" cy="21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Para. 30-3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Why and to what extent he had been successful.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H="1">
              <a:off x="5028480" y="312408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dddd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mow your lawn"/>
          <p:cNvPicPr/>
          <p:nvPr/>
        </p:nvPicPr>
        <p:blipFill>
          <a:blip r:embed="rId2"/>
          <a:stretch/>
        </p:blipFill>
        <p:spPr>
          <a:xfrm>
            <a:off x="0" y="8892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lean snow"/>
          <p:cNvPicPr/>
          <p:nvPr/>
        </p:nvPicPr>
        <p:blipFill>
          <a:blip r:embed="rId3"/>
          <a:stretch/>
        </p:blipFill>
        <p:spPr>
          <a:xfrm>
            <a:off x="0" y="7632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apparentice"/>
          <p:cNvPicPr/>
          <p:nvPr/>
        </p:nvPicPr>
        <p:blipFill>
          <a:blip r:embed="rId4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4400" y="76320"/>
            <a:ext cx="77724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233312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ext Org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izati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i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ords and Phr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a. 5: next eve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a. 8: the next two d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a. 11: summer passed into 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a. 17: a year or two pa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a. 22: after about two yea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a. 27: sometime la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a. 30: after he passed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486400" y="533520"/>
            <a:ext cx="12193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Subject Complemen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I went into my house un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I went into my house and I was un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Lang</a:t>
            </a: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u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age P</a:t>
            </a: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o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ints(Para.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828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 hurried home, and he was anxious to watch The World Cup on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 hurried home,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nxi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watch The World Cup on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666880" y="4572000"/>
            <a:ext cx="5410440" cy="1247760"/>
            <a:chOff x="2666880" y="4572000"/>
            <a:chExt cx="5410440" cy="1247760"/>
          </a:xfrm>
        </p:grpSpPr>
        <p:sp>
          <p:nvSpPr>
            <p:cNvPr id="214" name=""/>
            <p:cNvSpPr/>
            <p:nvPr/>
          </p:nvSpPr>
          <p:spPr>
            <a:xfrm>
              <a:off x="2666880" y="4572000"/>
              <a:ext cx="5410440" cy="1247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766960" y="4686480"/>
              <a:ext cx="1060200" cy="1020600"/>
              <a:chOff x="2766960" y="4686480"/>
              <a:chExt cx="1060200" cy="1020600"/>
            </a:xfrm>
          </p:grpSpPr>
          <p:sp>
            <p:nvSpPr>
              <p:cNvPr id="216" name=""/>
              <p:cNvSpPr/>
              <p:nvPr/>
            </p:nvSpPr>
            <p:spPr>
              <a:xfrm>
                <a:off x="2784240" y="4686480"/>
                <a:ext cx="1042920" cy="1020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829b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49760" y="4752000"/>
                <a:ext cx="519840" cy="5101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edee"/>
                  </a:gs>
                  <a:gs pos="50000">
                    <a:srgbClr val="bbe0e3">
                      <a:alpha val="0"/>
                    </a:srgbClr>
                  </a:gs>
                  <a:gs pos="100000">
                    <a:srgbClr val="d9ed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66960" y="5062680"/>
                <a:ext cx="106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nxio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969000" y="4766040"/>
              <a:ext cx="39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Arial"/>
                  <a:ea typeface="黑体"/>
                </a:rPr>
                <a:t>急于想看电视转播的世界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029200" y="3886200"/>
            <a:ext cx="914400" cy="507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3352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ang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ge P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nts(Para.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43880" y="4114800"/>
            <a:ext cx="1500120" cy="155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u=3738105795,2529526604&amp;fm=0&amp;gp=0"/>
          <p:cNvPicPr/>
          <p:nvPr/>
        </p:nvPicPr>
        <p:blipFill>
          <a:blip r:embed="rId2"/>
          <a:stretch/>
        </p:blipFill>
        <p:spPr>
          <a:xfrm>
            <a:off x="152280" y="1295280"/>
            <a:ext cx="1905120" cy="2362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523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Depress: make sb. sad or  make sth. less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743200"/>
            <a:ext cx="4114800" cy="519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abcbc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99"/>
                </a:solidFill>
                <a:uFillTx/>
                <a:latin typeface="Arial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90920" y="3505320"/>
            <a:ext cx="1398600" cy="1887120"/>
            <a:chOff x="2590920" y="3505320"/>
            <a:chExt cx="1398600" cy="1887120"/>
          </a:xfrm>
        </p:grpSpPr>
        <p:grpSp>
          <p:nvGrpSpPr>
            <p:cNvPr id="227" name=""/>
            <p:cNvGrpSpPr/>
            <p:nvPr/>
          </p:nvGrpSpPr>
          <p:grpSpPr>
            <a:xfrm>
              <a:off x="2590920" y="3505320"/>
              <a:ext cx="1398600" cy="1373760"/>
              <a:chOff x="2590920" y="3505320"/>
              <a:chExt cx="1398600" cy="1373760"/>
            </a:xfrm>
          </p:grpSpPr>
          <p:sp>
            <p:nvSpPr>
              <p:cNvPr id="228" name=""/>
              <p:cNvSpPr/>
              <p:nvPr/>
            </p:nvSpPr>
            <p:spPr>
              <a:xfrm>
                <a:off x="2590920" y="3505320"/>
                <a:ext cx="1398600" cy="13737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e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50760" y="3528000"/>
                <a:ext cx="1078920" cy="51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660760" y="416484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0920" y="4951080"/>
              <a:ext cx="1334520" cy="441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0" y="3505320"/>
            <a:ext cx="1398600" cy="1887120"/>
            <a:chOff x="4572000" y="3505320"/>
            <a:chExt cx="1398600" cy="1887120"/>
          </a:xfrm>
        </p:grpSpPr>
        <p:grpSp>
          <p:nvGrpSpPr>
            <p:cNvPr id="233" name=""/>
            <p:cNvGrpSpPr/>
            <p:nvPr/>
          </p:nvGrpSpPr>
          <p:grpSpPr>
            <a:xfrm>
              <a:off x="4572000" y="3505320"/>
              <a:ext cx="1398600" cy="1373760"/>
              <a:chOff x="4572000" y="3505320"/>
              <a:chExt cx="1398600" cy="1373760"/>
            </a:xfrm>
          </p:grpSpPr>
          <p:sp>
            <p:nvSpPr>
              <p:cNvPr id="234" name=""/>
              <p:cNvSpPr/>
              <p:nvPr/>
            </p:nvSpPr>
            <p:spPr>
              <a:xfrm>
                <a:off x="4572000" y="3505320"/>
                <a:ext cx="1398600" cy="13737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f72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731840" y="3528000"/>
                <a:ext cx="1078920" cy="51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4641840" y="416484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ro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4951080"/>
              <a:ext cx="1334520" cy="441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781680" y="2666880"/>
            <a:ext cx="990720" cy="744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554520" y="2819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La</a:t>
            </a: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guage Poi</a:t>
            </a: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ts(Para.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49528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99"/>
                </a:solidFill>
                <a:latin typeface="Arial"/>
              </a:rPr>
              <a:t>e.g. The long queue outside each pavilion in Expo 2010 Shanghai really depressed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4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La</a:t>
            </a: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guage Poi</a:t>
            </a: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ts(Para. 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Personnel; personal;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onn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taff; a department in a firm   which deals with employ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g.  Personnel department/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of a particular person;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g. one’s personal affairs /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ona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haracteristics or 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g. A strong /likeable 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guage P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ly; personnel; 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uring the interview, the _________ manager was deeply impressed by one of the applicants by his strong ambition ,determination and optimistic __________;  and accepted him as his best option 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391520" y="4732200"/>
            <a:ext cx="1218960" cy="1187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514600" y="3505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209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38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905120" y="3886200"/>
            <a:ext cx="5866560" cy="1857240"/>
            <a:chOff x="1905120" y="3886200"/>
            <a:chExt cx="5866560" cy="1857240"/>
          </a:xfrm>
        </p:grpSpPr>
        <p:sp>
          <p:nvSpPr>
            <p:cNvPr id="251" name=""/>
            <p:cNvSpPr/>
            <p:nvPr/>
          </p:nvSpPr>
          <p:spPr>
            <a:xfrm>
              <a:off x="1905120" y="3886200"/>
              <a:ext cx="5866560" cy="185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95840" y="3891240"/>
              <a:ext cx="5689800" cy="182196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42640" y="5232600"/>
              <a:ext cx="5612760" cy="46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42640" y="3905640"/>
              <a:ext cx="561276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11760" y="4179960"/>
              <a:ext cx="5578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Tony and the greatest industrialists achieved was exactly the same. The only difference was that they had different financial su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ge Poi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s(Para.3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Tony did not begin on the bottom rung of the ladder. He began in the basement. Tony’s affair w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the greatest industrialists’ affairs w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But, after all,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lance she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re exactly the same. The only difference was where you put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cimal po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41911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Verdana"/>
                <a:ea typeface="黑体"/>
              </a:rPr>
              <a:t>托尼不是从最低一级阶梯往上爬的，他是从地下室往上爬的。托尼的事业很小，那些最大的实业家的事业很大。但究其实，两者的资产负债表完全一样。惟一的不同是你把小数点点在什么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4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Repetition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(I mow your la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ow great emphasis 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lso show strong deter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g Str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0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895480" y="1143000"/>
            <a:ext cx="6019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me he looked to be sixty or seventy and excessively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He wo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vere eyeglasses, his wavy hair wa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mbed. He wo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uit with neckties se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gainst the collar buttons of his white shirts. He had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ed jaw,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raight nose, and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nner of speaking that was so correct that he seemed a comic ant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g Str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986200" cy="5010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143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Unit One Writing For Yourse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D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ssion N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arted in America by subprime crisis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次贷危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ve a great impact on glob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harsh time for job-h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21193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3733920" cy="2586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52480" y="2209680"/>
            <a:ext cx="289584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rot="17973000">
            <a:off x="5379120" y="21294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3465600">
            <a:off x="5429160" y="4239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4368800">
            <a:off x="4210560" y="21513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534800">
            <a:off x="4172400" y="42062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08760" y="3203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3598560" y="31968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19560" y="144612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68400" y="1324080"/>
            <a:ext cx="10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4360" y="1324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88040" y="312408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e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mi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68040" y="46767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elf-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07080" y="307656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elf-resp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84640" y="461484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pti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76640" y="32241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b9b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91040" y="1573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b9b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96160" y="1573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b9b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14720" y="4773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b9b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96160" y="47736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b9b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10560" y="3211560"/>
            <a:ext cx="304560" cy="304920"/>
          </a:xfrm>
          <a:prstGeom prst="ellipse">
            <a:avLst/>
          </a:prstGeom>
          <a:gradFill rotWithShape="0">
            <a:gsLst>
              <a:gs pos="0">
                <a:srgbClr val="9b9b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9240" y="247644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68960" y="247644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70480" y="25858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14760" y="262080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45000" y="266076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65520" y="2679840"/>
            <a:ext cx="1290600" cy="1277640"/>
            <a:chOff x="4565520" y="2679840"/>
            <a:chExt cx="1290600" cy="1277640"/>
          </a:xfrm>
        </p:grpSpPr>
        <p:sp>
          <p:nvSpPr>
            <p:cNvPr id="295" name=""/>
            <p:cNvSpPr/>
            <p:nvPr/>
          </p:nvSpPr>
          <p:spPr>
            <a:xfrm>
              <a:off x="4565520" y="2679840"/>
              <a:ext cx="1290600" cy="1277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81720" y="2686680"/>
              <a:ext cx="1259640" cy="1245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95400" y="2699280"/>
              <a:ext cx="1197720" cy="11642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65240" y="2731680"/>
              <a:ext cx="1064880" cy="944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4572000" y="3124080"/>
            <a:ext cx="128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ucc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906120" cy="65912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04960" y="91440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Monotype Corsiva"/>
              </a:rPr>
              <a:t>Try, Try Again</a:t>
            </a:r>
            <a:br>
              <a:rPr sz="3200"/>
            </a:b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                              </a:t>
            </a:r>
            <a:r>
              <a:rPr b="1" lang="zh-CN" sz="1600" spc="-1" strike="noStrike">
                <a:solidFill>
                  <a:srgbClr val="292929"/>
                </a:solidFill>
                <a:latin typeface="Monotype Corsiva"/>
              </a:rPr>
              <a:t>T.H.palmer</a:t>
            </a:r>
            <a:r>
              <a:rPr b="1" lang="zh-CN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1600200"/>
            <a:ext cx="419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‘</a:t>
            </a: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Tis a lesson you should heed,</a:t>
            </a:r>
            <a:br>
              <a:rPr sz="2800"/>
            </a:b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if at first you don’t succeed,</a:t>
            </a:r>
            <a:br>
              <a:rPr sz="2800"/>
            </a:b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Try, try ag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Then your courage should appear,</a:t>
            </a:r>
            <a:br>
              <a:rPr sz="2800"/>
            </a:b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For if you will persevere,</a:t>
            </a:r>
            <a:br>
              <a:rPr sz="2800"/>
            </a:b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You will conquer, never fear</a:t>
            </a:r>
            <a:br>
              <a:rPr sz="2800"/>
            </a:br>
            <a:r>
              <a:rPr b="1" lang="zh-CN" sz="2800" spc="-1" strike="noStrike">
                <a:solidFill>
                  <a:srgbClr val="292929"/>
                </a:solidFill>
                <a:latin typeface="Monotype Corsiva"/>
              </a:rPr>
              <a:t>Try, try ag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315200" y="5181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6" dur="3078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3962520" cy="31161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s is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the end.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7696080" y="1600200"/>
            <a:ext cx="990720" cy="965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33333E-006 -0.06104 C 0.06892 -0.06104 0.125 -0.0326 0.125 0.00277 C 0.125 0.03792 0.06892 0.06682 3.33333E-006 0.06682 C -0.0691 0.06682 -0.125 0.03792 -0.125 0.00277 C -0.125 -0.0326 -0.0691 -0.06104 3.33333E-006 -0.06104 Z">
                                      <p:cBhvr>
                                        <p:cTn id="812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3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04920" y="1523880"/>
            <a:ext cx="556272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Questio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you h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e a dre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4960" y="28191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t Fo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eri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 Dr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meri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n Dream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merican Dream means American is a dream of land in which life should be better, richer and fuller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It is a part of American spi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322884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1680" y="2895480"/>
            <a:ext cx="23623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e a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ll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hav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68580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1160" y="3213000"/>
            <a:ext cx="9142920" cy="355680"/>
            <a:chOff x="-11160" y="3213000"/>
            <a:chExt cx="9142920" cy="355680"/>
          </a:xfrm>
        </p:grpSpPr>
        <p:sp>
          <p:nvSpPr>
            <p:cNvPr id="53" name="Rectangle 4"/>
            <p:cNvSpPr/>
            <p:nvPr/>
          </p:nvSpPr>
          <p:spPr>
            <a:xfrm>
              <a:off x="-11160" y="3483000"/>
              <a:ext cx="9142920" cy="85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-11160" y="3213000"/>
              <a:ext cx="9142920" cy="23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6"/>
          <p:cNvSpPr/>
          <p:nvPr/>
        </p:nvSpPr>
        <p:spPr>
          <a:xfrm>
            <a:off x="3193920" y="3211560"/>
            <a:ext cx="2806920" cy="23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193920" y="3481560"/>
            <a:ext cx="2806920" cy="8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193920" y="3211560"/>
            <a:ext cx="2806920" cy="23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052160" y="318780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047480" y="319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142160" y="318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254120" y="31924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338360" y="3192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454640" y="31878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95680" y="3192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604040" y="3192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48652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4502520" y="40226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221440" y="1962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637080" y="134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-36360" y="0"/>
            <a:ext cx="918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39640" y="1346040"/>
            <a:ext cx="7056720" cy="2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3"/>
          <p:cNvGrpSpPr/>
          <p:nvPr/>
        </p:nvGrpSpPr>
        <p:grpSpPr>
          <a:xfrm>
            <a:off x="463680" y="609480"/>
            <a:ext cx="8428320" cy="731880"/>
            <a:chOff x="463680" y="609480"/>
            <a:chExt cx="8428320" cy="731880"/>
          </a:xfrm>
        </p:grpSpPr>
        <p:sp>
          <p:nvSpPr>
            <p:cNvPr id="73" name="Text Box 24"/>
            <p:cNvSpPr/>
            <p:nvPr/>
          </p:nvSpPr>
          <p:spPr>
            <a:xfrm>
              <a:off x="463680" y="609480"/>
              <a:ext cx="842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Tony Trivisonno’s American Drea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5"/>
            <p:cNvSpPr/>
            <p:nvPr/>
          </p:nvSpPr>
          <p:spPr>
            <a:xfrm>
              <a:off x="3435120" y="933480"/>
              <a:ext cx="18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6"/>
            <p:cNvSpPr/>
            <p:nvPr/>
          </p:nvSpPr>
          <p:spPr>
            <a:xfrm>
              <a:off x="6315480" y="884160"/>
              <a:ext cx="18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27"/>
          <p:cNvSpPr/>
          <p:nvPr/>
        </p:nvSpPr>
        <p:spPr>
          <a:xfrm>
            <a:off x="369720" y="143820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8"/>
          <p:cNvGrpSpPr/>
          <p:nvPr/>
        </p:nvGrpSpPr>
        <p:grpSpPr>
          <a:xfrm>
            <a:off x="5486400" y="3610080"/>
            <a:ext cx="1152360" cy="936360"/>
            <a:chOff x="5486400" y="3610080"/>
            <a:chExt cx="1152360" cy="936360"/>
          </a:xfrm>
        </p:grpSpPr>
        <p:sp>
          <p:nvSpPr>
            <p:cNvPr id="78" name="Line 29"/>
            <p:cNvSpPr/>
            <p:nvPr/>
          </p:nvSpPr>
          <p:spPr>
            <a:xfrm>
              <a:off x="5486400" y="4089240"/>
              <a:ext cx="1152360" cy="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6084720" y="3610080"/>
              <a:ext cx="0" cy="9363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1"/>
          <p:cNvGrpSpPr/>
          <p:nvPr/>
        </p:nvGrpSpPr>
        <p:grpSpPr>
          <a:xfrm>
            <a:off x="4343400" y="3598920"/>
            <a:ext cx="1152360" cy="936360"/>
            <a:chOff x="4343400" y="3598920"/>
            <a:chExt cx="1152360" cy="936360"/>
          </a:xfrm>
        </p:grpSpPr>
        <p:sp>
          <p:nvSpPr>
            <p:cNvPr id="81" name="Line 32"/>
            <p:cNvSpPr/>
            <p:nvPr/>
          </p:nvSpPr>
          <p:spPr>
            <a:xfrm>
              <a:off x="4343400" y="4078080"/>
              <a:ext cx="1152360" cy="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>
              <a:off x="4941720" y="3598920"/>
              <a:ext cx="0" cy="9363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4"/>
          <p:cNvGrpSpPr/>
          <p:nvPr/>
        </p:nvGrpSpPr>
        <p:grpSpPr>
          <a:xfrm>
            <a:off x="6672240" y="3598920"/>
            <a:ext cx="1152360" cy="936360"/>
            <a:chOff x="6672240" y="3598920"/>
            <a:chExt cx="1152360" cy="936360"/>
          </a:xfrm>
        </p:grpSpPr>
        <p:sp>
          <p:nvSpPr>
            <p:cNvPr id="84" name="Line 35"/>
            <p:cNvSpPr/>
            <p:nvPr/>
          </p:nvSpPr>
          <p:spPr>
            <a:xfrm>
              <a:off x="6672240" y="4078080"/>
              <a:ext cx="1152360" cy="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6"/>
            <p:cNvSpPr/>
            <p:nvPr/>
          </p:nvSpPr>
          <p:spPr>
            <a:xfrm>
              <a:off x="7270560" y="3598920"/>
              <a:ext cx="0" cy="9363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7"/>
          <p:cNvGrpSpPr/>
          <p:nvPr/>
        </p:nvGrpSpPr>
        <p:grpSpPr>
          <a:xfrm>
            <a:off x="5486400" y="2612880"/>
            <a:ext cx="1152360" cy="936360"/>
            <a:chOff x="5486400" y="2612880"/>
            <a:chExt cx="1152360" cy="936360"/>
          </a:xfrm>
        </p:grpSpPr>
        <p:sp>
          <p:nvSpPr>
            <p:cNvPr id="87" name="Line 38"/>
            <p:cNvSpPr/>
            <p:nvPr/>
          </p:nvSpPr>
          <p:spPr>
            <a:xfrm>
              <a:off x="5486400" y="3092040"/>
              <a:ext cx="1152360" cy="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9"/>
            <p:cNvSpPr/>
            <p:nvPr/>
          </p:nvSpPr>
          <p:spPr>
            <a:xfrm>
              <a:off x="6084720" y="2612880"/>
              <a:ext cx="0" cy="9363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5486400" y="4592520"/>
            <a:ext cx="1152360" cy="936360"/>
            <a:chOff x="5486400" y="4592520"/>
            <a:chExt cx="1152360" cy="936360"/>
          </a:xfrm>
        </p:grpSpPr>
        <p:sp>
          <p:nvSpPr>
            <p:cNvPr id="90" name="Line 41"/>
            <p:cNvSpPr/>
            <p:nvPr/>
          </p:nvSpPr>
          <p:spPr>
            <a:xfrm>
              <a:off x="5486400" y="5071680"/>
              <a:ext cx="1152360" cy="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2"/>
            <p:cNvSpPr/>
            <p:nvPr/>
          </p:nvSpPr>
          <p:spPr>
            <a:xfrm>
              <a:off x="6084720" y="4592520"/>
              <a:ext cx="0" cy="9363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43"/>
          <p:cNvGrpSpPr/>
          <p:nvPr/>
        </p:nvGrpSpPr>
        <p:grpSpPr>
          <a:xfrm>
            <a:off x="3635280" y="1486080"/>
            <a:ext cx="4824360" cy="5256000"/>
            <a:chOff x="3635280" y="1486080"/>
            <a:chExt cx="4824360" cy="5256000"/>
          </a:xfrm>
        </p:grpSpPr>
        <p:grpSp>
          <p:nvGrpSpPr>
            <p:cNvPr id="93" name="Group 44"/>
            <p:cNvGrpSpPr/>
            <p:nvPr/>
          </p:nvGrpSpPr>
          <p:grpSpPr>
            <a:xfrm>
              <a:off x="3635280" y="1486080"/>
              <a:ext cx="4824360" cy="5256000"/>
              <a:chOff x="3635280" y="1486080"/>
              <a:chExt cx="4824360" cy="5256000"/>
            </a:xfrm>
          </p:grpSpPr>
          <p:sp>
            <p:nvSpPr>
              <p:cNvPr id="94" name="Line 45"/>
              <p:cNvSpPr/>
              <p:nvPr/>
            </p:nvSpPr>
            <p:spPr>
              <a:xfrm>
                <a:off x="3635280" y="4581360"/>
                <a:ext cx="4824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46"/>
              <p:cNvSpPr/>
              <p:nvPr/>
            </p:nvSpPr>
            <p:spPr>
              <a:xfrm>
                <a:off x="5219640" y="5589360"/>
                <a:ext cx="1728720" cy="0"/>
              </a:xfrm>
              <a:prstGeom prst="line">
                <a:avLst/>
              </a:prstGeom>
              <a:ln w="324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47"/>
              <p:cNvSpPr/>
              <p:nvPr/>
            </p:nvSpPr>
            <p:spPr>
              <a:xfrm>
                <a:off x="5435640" y="6597720"/>
                <a:ext cx="1297080" cy="0"/>
              </a:xfrm>
              <a:prstGeom prst="line">
                <a:avLst/>
              </a:prstGeom>
              <a:ln w="324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8"/>
              <p:cNvSpPr/>
              <p:nvPr/>
            </p:nvSpPr>
            <p:spPr>
              <a:xfrm>
                <a:off x="5148360" y="2565360"/>
                <a:ext cx="1906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49"/>
              <p:cNvSpPr/>
              <p:nvPr/>
            </p:nvSpPr>
            <p:spPr>
              <a:xfrm>
                <a:off x="3851280" y="3573360"/>
                <a:ext cx="4537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50"/>
              <p:cNvSpPr/>
              <p:nvPr/>
            </p:nvSpPr>
            <p:spPr>
              <a:xfrm>
                <a:off x="5506920" y="1486080"/>
                <a:ext cx="0" cy="5256000"/>
              </a:xfrm>
              <a:prstGeom prst="line">
                <a:avLst/>
              </a:prstGeom>
              <a:ln w="324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51"/>
              <p:cNvSpPr/>
              <p:nvPr/>
            </p:nvSpPr>
            <p:spPr>
              <a:xfrm>
                <a:off x="6659640" y="1486080"/>
                <a:ext cx="0" cy="518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2"/>
              <p:cNvSpPr/>
              <p:nvPr/>
            </p:nvSpPr>
            <p:spPr>
              <a:xfrm>
                <a:off x="4363920" y="2997000"/>
                <a:ext cx="0" cy="2160360"/>
              </a:xfrm>
              <a:prstGeom prst="line">
                <a:avLst/>
              </a:prstGeom>
              <a:ln w="324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53"/>
              <p:cNvSpPr/>
              <p:nvPr/>
            </p:nvSpPr>
            <p:spPr>
              <a:xfrm>
                <a:off x="7812000" y="2997000"/>
                <a:ext cx="0" cy="2016000"/>
              </a:xfrm>
              <a:prstGeom prst="line">
                <a:avLst/>
              </a:prstGeom>
              <a:ln w="324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54"/>
              <p:cNvSpPr/>
              <p:nvPr/>
            </p:nvSpPr>
            <p:spPr>
              <a:xfrm>
                <a:off x="5435640" y="1536480"/>
                <a:ext cx="1297080" cy="0"/>
              </a:xfrm>
              <a:prstGeom prst="line">
                <a:avLst/>
              </a:prstGeom>
              <a:ln w="324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5"/>
            <p:cNvGrpSpPr/>
            <p:nvPr/>
          </p:nvGrpSpPr>
          <p:grpSpPr>
            <a:xfrm>
              <a:off x="5486400" y="1557360"/>
              <a:ext cx="1152360" cy="936360"/>
              <a:chOff x="5486400" y="1557360"/>
              <a:chExt cx="1152360" cy="936360"/>
            </a:xfrm>
          </p:grpSpPr>
          <p:sp>
            <p:nvSpPr>
              <p:cNvPr id="105" name="Line 56"/>
              <p:cNvSpPr/>
              <p:nvPr/>
            </p:nvSpPr>
            <p:spPr>
              <a:xfrm>
                <a:off x="5486400" y="2036520"/>
                <a:ext cx="115236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57"/>
              <p:cNvSpPr/>
              <p:nvPr/>
            </p:nvSpPr>
            <p:spPr>
              <a:xfrm>
                <a:off x="6084720" y="1557360"/>
                <a:ext cx="0" cy="93636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58"/>
            <p:cNvGrpSpPr/>
            <p:nvPr/>
          </p:nvGrpSpPr>
          <p:grpSpPr>
            <a:xfrm>
              <a:off x="4343400" y="2616120"/>
              <a:ext cx="1152360" cy="936360"/>
              <a:chOff x="4343400" y="2616120"/>
              <a:chExt cx="1152360" cy="936360"/>
            </a:xfrm>
          </p:grpSpPr>
          <p:sp>
            <p:nvSpPr>
              <p:cNvPr id="108" name="Line 59"/>
              <p:cNvSpPr/>
              <p:nvPr/>
            </p:nvSpPr>
            <p:spPr>
              <a:xfrm>
                <a:off x="4343400" y="3095280"/>
                <a:ext cx="115236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60"/>
              <p:cNvSpPr/>
              <p:nvPr/>
            </p:nvSpPr>
            <p:spPr>
              <a:xfrm>
                <a:off x="4941720" y="2616120"/>
                <a:ext cx="0" cy="93636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1"/>
            <p:cNvGrpSpPr/>
            <p:nvPr/>
          </p:nvGrpSpPr>
          <p:grpSpPr>
            <a:xfrm>
              <a:off x="6659640" y="2612880"/>
              <a:ext cx="1152360" cy="936360"/>
              <a:chOff x="6659640" y="2612880"/>
              <a:chExt cx="1152360" cy="936360"/>
            </a:xfrm>
          </p:grpSpPr>
          <p:sp>
            <p:nvSpPr>
              <p:cNvPr id="111" name="Line 62"/>
              <p:cNvSpPr/>
              <p:nvPr/>
            </p:nvSpPr>
            <p:spPr>
              <a:xfrm>
                <a:off x="6659640" y="3092040"/>
                <a:ext cx="115236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3"/>
              <p:cNvSpPr/>
              <p:nvPr/>
            </p:nvSpPr>
            <p:spPr>
              <a:xfrm>
                <a:off x="7257960" y="2612880"/>
                <a:ext cx="0" cy="93636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4"/>
            <p:cNvGrpSpPr/>
            <p:nvPr/>
          </p:nvGrpSpPr>
          <p:grpSpPr>
            <a:xfrm>
              <a:off x="4343400" y="4581360"/>
              <a:ext cx="1152360" cy="936360"/>
              <a:chOff x="4343400" y="4581360"/>
              <a:chExt cx="1152360" cy="936360"/>
            </a:xfrm>
          </p:grpSpPr>
          <p:sp>
            <p:nvSpPr>
              <p:cNvPr id="114" name="Line 65"/>
              <p:cNvSpPr/>
              <p:nvPr/>
            </p:nvSpPr>
            <p:spPr>
              <a:xfrm>
                <a:off x="4343400" y="5060520"/>
                <a:ext cx="115236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66"/>
              <p:cNvSpPr/>
              <p:nvPr/>
            </p:nvSpPr>
            <p:spPr>
              <a:xfrm>
                <a:off x="4941720" y="4581360"/>
                <a:ext cx="0" cy="93636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67"/>
            <p:cNvGrpSpPr/>
            <p:nvPr/>
          </p:nvGrpSpPr>
          <p:grpSpPr>
            <a:xfrm>
              <a:off x="5486400" y="5614920"/>
              <a:ext cx="1152360" cy="936360"/>
              <a:chOff x="5486400" y="5614920"/>
              <a:chExt cx="1152360" cy="936360"/>
            </a:xfrm>
          </p:grpSpPr>
          <p:sp>
            <p:nvSpPr>
              <p:cNvPr id="117" name="Line 68"/>
              <p:cNvSpPr/>
              <p:nvPr/>
            </p:nvSpPr>
            <p:spPr>
              <a:xfrm>
                <a:off x="5486400" y="6094080"/>
                <a:ext cx="115236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69"/>
              <p:cNvSpPr/>
              <p:nvPr/>
            </p:nvSpPr>
            <p:spPr>
              <a:xfrm>
                <a:off x="6084720" y="5614920"/>
                <a:ext cx="0" cy="93636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70"/>
            <p:cNvGrpSpPr/>
            <p:nvPr/>
          </p:nvGrpSpPr>
          <p:grpSpPr>
            <a:xfrm>
              <a:off x="6659640" y="4581360"/>
              <a:ext cx="1152360" cy="936360"/>
              <a:chOff x="6659640" y="4581360"/>
              <a:chExt cx="1152360" cy="936360"/>
            </a:xfrm>
          </p:grpSpPr>
          <p:sp>
            <p:nvSpPr>
              <p:cNvPr id="120" name="Line 71"/>
              <p:cNvSpPr/>
              <p:nvPr/>
            </p:nvSpPr>
            <p:spPr>
              <a:xfrm>
                <a:off x="6659640" y="5060520"/>
                <a:ext cx="115236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72"/>
              <p:cNvSpPr/>
              <p:nvPr/>
            </p:nvSpPr>
            <p:spPr>
              <a:xfrm>
                <a:off x="7257960" y="4581360"/>
                <a:ext cx="0" cy="936360"/>
              </a:xfrm>
              <a:prstGeom prst="line">
                <a:avLst/>
              </a:prstGeom>
              <a:ln w="9360">
                <a:solidFill>
                  <a:srgbClr val="5f5f5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Rectangle 73">
            <a:hlinkClick r:id="rId1" action="ppaction://hlinksldjump"/>
          </p:cNvPr>
          <p:cNvSpPr/>
          <p:nvPr/>
        </p:nvSpPr>
        <p:spPr>
          <a:xfrm>
            <a:off x="5546880" y="2603520"/>
            <a:ext cx="1079280" cy="936720"/>
          </a:xfrm>
          <a:prstGeom prst="rect">
            <a:avLst/>
          </a:prstGeom>
          <a:gradFill rotWithShape="0">
            <a:gsLst>
              <a:gs pos="0">
                <a:srgbClr val="ffffff">
                  <a:alpha val="29019"/>
                </a:srgbClr>
              </a:gs>
              <a:gs pos="100000">
                <a:srgbClr val="ffffff">
                  <a:alpha val="1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4">
            <a:hlinkClick r:id="rId2" action="ppaction://hlinksldjump"/>
          </p:cNvPr>
          <p:cNvSpPr/>
          <p:nvPr/>
        </p:nvSpPr>
        <p:spPr>
          <a:xfrm>
            <a:off x="5533920" y="3611520"/>
            <a:ext cx="1079640" cy="936720"/>
          </a:xfrm>
          <a:prstGeom prst="rect">
            <a:avLst/>
          </a:prstGeom>
          <a:gradFill rotWithShape="0">
            <a:gsLst>
              <a:gs pos="0">
                <a:srgbClr val="ffffff">
                  <a:alpha val="41176"/>
                </a:srgbClr>
              </a:gs>
              <a:gs pos="100000">
                <a:srgbClr val="ffffff">
                  <a:alpha val="19215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5">
            <a:hlinkClick r:id="rId3" action="ppaction://hlinksldjump"/>
          </p:cNvPr>
          <p:cNvSpPr/>
          <p:nvPr/>
        </p:nvSpPr>
        <p:spPr>
          <a:xfrm>
            <a:off x="6707160" y="3624120"/>
            <a:ext cx="1079640" cy="936720"/>
          </a:xfrm>
          <a:prstGeom prst="rect">
            <a:avLst/>
          </a:prstGeom>
          <a:gradFill rotWithShape="0">
            <a:gsLst>
              <a:gs pos="0">
                <a:srgbClr val="ffffff">
                  <a:alpha val="29019"/>
                </a:srgbClr>
              </a:gs>
              <a:gs pos="100000">
                <a:srgbClr val="ffffff">
                  <a:alpha val="3137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6">
            <a:hlinkClick r:id="rId4" action="ppaction://hlinksldjump"/>
          </p:cNvPr>
          <p:cNvSpPr/>
          <p:nvPr/>
        </p:nvSpPr>
        <p:spPr>
          <a:xfrm>
            <a:off x="5533920" y="4606920"/>
            <a:ext cx="1079640" cy="936720"/>
          </a:xfrm>
          <a:prstGeom prst="rect">
            <a:avLst/>
          </a:prstGeom>
          <a:gradFill rotWithShape="0">
            <a:gsLst>
              <a:gs pos="0">
                <a:srgbClr val="ffffff">
                  <a:alpha val="29019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7">
            <a:hlinkClick r:id="rId5" action="ppaction://hlinksldjump"/>
          </p:cNvPr>
          <p:cNvSpPr/>
          <p:nvPr/>
        </p:nvSpPr>
        <p:spPr>
          <a:xfrm flipH="1">
            <a:off x="4413960" y="3606840"/>
            <a:ext cx="1081080" cy="936720"/>
          </a:xfrm>
          <a:prstGeom prst="rect">
            <a:avLst/>
          </a:prstGeom>
          <a:gradFill rotWithShape="0">
            <a:gsLst>
              <a:gs pos="0">
                <a:srgbClr val="ffffff">
                  <a:alpha val="29019"/>
                </a:srgbClr>
              </a:gs>
              <a:gs pos="100000">
                <a:srgbClr val="ffffff">
                  <a:alpha val="3137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5427720" y="2495520"/>
            <a:ext cx="144360" cy="144360"/>
            <a:chOff x="5427720" y="2495520"/>
            <a:chExt cx="144360" cy="144360"/>
          </a:xfrm>
        </p:grpSpPr>
        <p:sp>
          <p:nvSpPr>
            <p:cNvPr id="128" name="Line 79"/>
            <p:cNvSpPr/>
            <p:nvPr/>
          </p:nvSpPr>
          <p:spPr>
            <a:xfrm>
              <a:off x="5427720" y="256680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0"/>
            <p:cNvSpPr/>
            <p:nvPr/>
          </p:nvSpPr>
          <p:spPr>
            <a:xfrm>
              <a:off x="5504040" y="249552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1"/>
          <p:cNvGrpSpPr/>
          <p:nvPr/>
        </p:nvGrpSpPr>
        <p:grpSpPr>
          <a:xfrm>
            <a:off x="6588000" y="2492280"/>
            <a:ext cx="144360" cy="144360"/>
            <a:chOff x="6588000" y="2492280"/>
            <a:chExt cx="144360" cy="144360"/>
          </a:xfrm>
        </p:grpSpPr>
        <p:sp>
          <p:nvSpPr>
            <p:cNvPr id="131" name="Line 82"/>
            <p:cNvSpPr/>
            <p:nvPr/>
          </p:nvSpPr>
          <p:spPr>
            <a:xfrm>
              <a:off x="6588000" y="25635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3"/>
            <p:cNvSpPr/>
            <p:nvPr/>
          </p:nvSpPr>
          <p:spPr>
            <a:xfrm>
              <a:off x="6664320" y="249228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84"/>
          <p:cNvGrpSpPr/>
          <p:nvPr/>
        </p:nvGrpSpPr>
        <p:grpSpPr>
          <a:xfrm>
            <a:off x="6588000" y="3500280"/>
            <a:ext cx="144360" cy="144360"/>
            <a:chOff x="6588000" y="3500280"/>
            <a:chExt cx="144360" cy="144360"/>
          </a:xfrm>
        </p:grpSpPr>
        <p:sp>
          <p:nvSpPr>
            <p:cNvPr id="134" name="Line 85"/>
            <p:cNvSpPr/>
            <p:nvPr/>
          </p:nvSpPr>
          <p:spPr>
            <a:xfrm>
              <a:off x="6588000" y="35715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6"/>
            <p:cNvSpPr/>
            <p:nvPr/>
          </p:nvSpPr>
          <p:spPr>
            <a:xfrm>
              <a:off x="6664320" y="350028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87"/>
          <p:cNvGrpSpPr/>
          <p:nvPr/>
        </p:nvGrpSpPr>
        <p:grpSpPr>
          <a:xfrm>
            <a:off x="7740720" y="3500280"/>
            <a:ext cx="144360" cy="144360"/>
            <a:chOff x="7740720" y="3500280"/>
            <a:chExt cx="144360" cy="144360"/>
          </a:xfrm>
        </p:grpSpPr>
        <p:sp>
          <p:nvSpPr>
            <p:cNvPr id="137" name="Line 88"/>
            <p:cNvSpPr/>
            <p:nvPr/>
          </p:nvSpPr>
          <p:spPr>
            <a:xfrm>
              <a:off x="7740720" y="35715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9"/>
            <p:cNvSpPr/>
            <p:nvPr/>
          </p:nvSpPr>
          <p:spPr>
            <a:xfrm>
              <a:off x="7817040" y="350028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90"/>
          <p:cNvGrpSpPr/>
          <p:nvPr/>
        </p:nvGrpSpPr>
        <p:grpSpPr>
          <a:xfrm>
            <a:off x="7740720" y="4508640"/>
            <a:ext cx="144360" cy="144360"/>
            <a:chOff x="7740720" y="4508640"/>
            <a:chExt cx="144360" cy="144360"/>
          </a:xfrm>
        </p:grpSpPr>
        <p:sp>
          <p:nvSpPr>
            <p:cNvPr id="140" name="Line 91"/>
            <p:cNvSpPr/>
            <p:nvPr/>
          </p:nvSpPr>
          <p:spPr>
            <a:xfrm>
              <a:off x="7740720" y="457992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2"/>
            <p:cNvSpPr/>
            <p:nvPr/>
          </p:nvSpPr>
          <p:spPr>
            <a:xfrm>
              <a:off x="7817040" y="4508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93"/>
          <p:cNvGrpSpPr/>
          <p:nvPr/>
        </p:nvGrpSpPr>
        <p:grpSpPr>
          <a:xfrm>
            <a:off x="6588000" y="4508640"/>
            <a:ext cx="144360" cy="144360"/>
            <a:chOff x="6588000" y="4508640"/>
            <a:chExt cx="144360" cy="144360"/>
          </a:xfrm>
        </p:grpSpPr>
        <p:sp>
          <p:nvSpPr>
            <p:cNvPr id="143" name="Line 94"/>
            <p:cNvSpPr/>
            <p:nvPr/>
          </p:nvSpPr>
          <p:spPr>
            <a:xfrm>
              <a:off x="6588000" y="457992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5"/>
            <p:cNvSpPr/>
            <p:nvPr/>
          </p:nvSpPr>
          <p:spPr>
            <a:xfrm>
              <a:off x="6664320" y="4508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96"/>
          <p:cNvGrpSpPr/>
          <p:nvPr/>
        </p:nvGrpSpPr>
        <p:grpSpPr>
          <a:xfrm>
            <a:off x="6588000" y="5516640"/>
            <a:ext cx="144360" cy="144360"/>
            <a:chOff x="6588000" y="5516640"/>
            <a:chExt cx="144360" cy="144360"/>
          </a:xfrm>
        </p:grpSpPr>
        <p:sp>
          <p:nvSpPr>
            <p:cNvPr id="146" name="Line 97"/>
            <p:cNvSpPr/>
            <p:nvPr/>
          </p:nvSpPr>
          <p:spPr>
            <a:xfrm>
              <a:off x="6588000" y="558792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8"/>
            <p:cNvSpPr/>
            <p:nvPr/>
          </p:nvSpPr>
          <p:spPr>
            <a:xfrm>
              <a:off x="6664320" y="5516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99"/>
          <p:cNvGrpSpPr/>
          <p:nvPr/>
        </p:nvGrpSpPr>
        <p:grpSpPr>
          <a:xfrm>
            <a:off x="5435640" y="5516640"/>
            <a:ext cx="144360" cy="144360"/>
            <a:chOff x="5435640" y="5516640"/>
            <a:chExt cx="144360" cy="144360"/>
          </a:xfrm>
        </p:grpSpPr>
        <p:sp>
          <p:nvSpPr>
            <p:cNvPr id="149" name="Line 100"/>
            <p:cNvSpPr/>
            <p:nvPr/>
          </p:nvSpPr>
          <p:spPr>
            <a:xfrm>
              <a:off x="5435640" y="558792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1"/>
            <p:cNvSpPr/>
            <p:nvPr/>
          </p:nvSpPr>
          <p:spPr>
            <a:xfrm>
              <a:off x="5511960" y="5516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02"/>
          <p:cNvGrpSpPr/>
          <p:nvPr/>
        </p:nvGrpSpPr>
        <p:grpSpPr>
          <a:xfrm>
            <a:off x="5435640" y="4508640"/>
            <a:ext cx="144360" cy="144360"/>
            <a:chOff x="5435640" y="4508640"/>
            <a:chExt cx="144360" cy="144360"/>
          </a:xfrm>
        </p:grpSpPr>
        <p:sp>
          <p:nvSpPr>
            <p:cNvPr id="152" name="Line 103"/>
            <p:cNvSpPr/>
            <p:nvPr/>
          </p:nvSpPr>
          <p:spPr>
            <a:xfrm>
              <a:off x="5435640" y="457992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4"/>
            <p:cNvSpPr/>
            <p:nvPr/>
          </p:nvSpPr>
          <p:spPr>
            <a:xfrm>
              <a:off x="5511960" y="4508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05"/>
          <p:cNvGrpSpPr/>
          <p:nvPr/>
        </p:nvGrpSpPr>
        <p:grpSpPr>
          <a:xfrm>
            <a:off x="4284720" y="4508640"/>
            <a:ext cx="144360" cy="144360"/>
            <a:chOff x="4284720" y="4508640"/>
            <a:chExt cx="144360" cy="144360"/>
          </a:xfrm>
        </p:grpSpPr>
        <p:sp>
          <p:nvSpPr>
            <p:cNvPr id="155" name="Line 106"/>
            <p:cNvSpPr/>
            <p:nvPr/>
          </p:nvSpPr>
          <p:spPr>
            <a:xfrm>
              <a:off x="4284720" y="457992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7"/>
            <p:cNvSpPr/>
            <p:nvPr/>
          </p:nvSpPr>
          <p:spPr>
            <a:xfrm>
              <a:off x="4361040" y="4508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08"/>
          <p:cNvGrpSpPr/>
          <p:nvPr/>
        </p:nvGrpSpPr>
        <p:grpSpPr>
          <a:xfrm>
            <a:off x="4284720" y="3500280"/>
            <a:ext cx="144360" cy="144360"/>
            <a:chOff x="4284720" y="3500280"/>
            <a:chExt cx="144360" cy="144360"/>
          </a:xfrm>
        </p:grpSpPr>
        <p:sp>
          <p:nvSpPr>
            <p:cNvPr id="158" name="Line 109"/>
            <p:cNvSpPr/>
            <p:nvPr/>
          </p:nvSpPr>
          <p:spPr>
            <a:xfrm>
              <a:off x="4284720" y="35715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10"/>
            <p:cNvSpPr/>
            <p:nvPr/>
          </p:nvSpPr>
          <p:spPr>
            <a:xfrm>
              <a:off x="4361040" y="350028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11"/>
          <p:cNvGrpSpPr/>
          <p:nvPr/>
        </p:nvGrpSpPr>
        <p:grpSpPr>
          <a:xfrm>
            <a:off x="5435640" y="3500280"/>
            <a:ext cx="144360" cy="144360"/>
            <a:chOff x="5435640" y="3500280"/>
            <a:chExt cx="144360" cy="144360"/>
          </a:xfrm>
        </p:grpSpPr>
        <p:sp>
          <p:nvSpPr>
            <p:cNvPr id="161" name="Line 112"/>
            <p:cNvSpPr/>
            <p:nvPr/>
          </p:nvSpPr>
          <p:spPr>
            <a:xfrm>
              <a:off x="5435640" y="35715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3"/>
            <p:cNvSpPr/>
            <p:nvPr/>
          </p:nvSpPr>
          <p:spPr>
            <a:xfrm>
              <a:off x="5511960" y="350028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14"/>
          <p:cNvSpPr/>
          <p:nvPr/>
        </p:nvSpPr>
        <p:spPr>
          <a:xfrm>
            <a:off x="5510880" y="3141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5"/>
          <p:cNvSpPr/>
          <p:nvPr/>
        </p:nvSpPr>
        <p:spPr>
          <a:xfrm>
            <a:off x="5581440" y="4149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6"/>
          <p:cNvSpPr/>
          <p:nvPr/>
        </p:nvSpPr>
        <p:spPr>
          <a:xfrm>
            <a:off x="4212720" y="41497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7"/>
          <p:cNvSpPr/>
          <p:nvPr/>
        </p:nvSpPr>
        <p:spPr>
          <a:xfrm>
            <a:off x="6660360" y="41497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8"/>
          <p:cNvSpPr/>
          <p:nvPr/>
        </p:nvSpPr>
        <p:spPr>
          <a:xfrm>
            <a:off x="5510880" y="50846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9"/>
          <p:cNvSpPr/>
          <p:nvPr/>
        </p:nvSpPr>
        <p:spPr>
          <a:xfrm>
            <a:off x="369720" y="295416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41" descr="922694164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11280" y="2133720"/>
            <a:ext cx="2593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-0.02732 L -0.18542 -0.26898 E">
                                      <p:cBhvr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4.07407E-006 L 0.03142 -0.39838 E">
                                      <p:cBhvr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169 L 0.25278 -0.25093 E">
                                      <p:cBhvr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-0.33594 0.27593 E">
                                      <p:cBhvr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9288 0.3713 E">
                                      <p:cBhvr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6 -4.07407E-006 L 0.15816 0.34977 E">
                                      <p:cBhvr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93 0.02199 L 0.32204 0.28449 E">
                                      <p:cBhvr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2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7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92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192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192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192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92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192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192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192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4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7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4876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st severe economic failure all over the world from 1929 to the Wor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lack Tuesday  (29 October, 19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3 million people lost their jobs only in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Gr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Depressi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560" y="2514600"/>
            <a:ext cx="3808440" cy="390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17017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5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7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7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7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952880" y="1600200"/>
            <a:ext cx="38862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GungsuhChe"/>
              </a:rPr>
              <a:t>I’m out of w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GungsuhChe"/>
              </a:rPr>
              <a:t>I’m out of my head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GungsuhChe"/>
              </a:rPr>
              <a:t>out of self respe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GungsuhChe"/>
              </a:rPr>
              <a:t>I’m out of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GungsuhChe"/>
              </a:rPr>
              <a:t>I’m underlov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GungsuhChe"/>
              </a:rPr>
              <a:t>I’m underf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GungsuhChe"/>
              </a:rPr>
              <a:t>I wanna go home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4419360" cy="2860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4038480" cy="2649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18T01:51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